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5D8B-FEAB-4863-A4F7-5F4AB36044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F7C1-A74E-419C-938D-5336AEA809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829-AE9B-431E-A6CA-33D06895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AE1-30A0-41A9-BF9C-A9E1E12A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861-D4CE-4349-8959-07360846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294-79AD-4CC4-94DD-0BD1C438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98C-5F5E-4ED7-BB21-D3A18096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5FC-21CE-4F83-8E29-D4ABC74D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966-0012-464D-BBD1-1727DA31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6D0-9C6B-4134-A338-68C187FD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1C3-574E-497D-9920-DFD48F46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D2C-0BF3-43F3-B687-808BDEF6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A9D-29F4-4033-B2CF-E2114FFE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BAB-FDE0-4447-A343-EBF3B734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a zaměstnanost a státního rozpočtu Č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24C4-5438-4C44-91F8-D913B264D0D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arevné logo pro záhlaví ESF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1"/>
          <p:cNvSpPr/>
          <p:nvPr/>
        </p:nvSpPr>
        <p:spPr>
          <a:xfrm>
            <a:off x="468360" y="624528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</a:t>
            </a:r>
            <a:br>
              <a:rPr sz="1100"/>
            </a:b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a zaměstnanost a státního rozpočtu Č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MPSV123</cp:lastModifiedBy>
  <dcterms:modified xsi:type="dcterms:W3CDTF">2013-11-21T11:24:03Z</dcterms:modified>
  <cp:revision>3</cp:revision>
  <dc:subject/>
  <dc:title>Poznámka: obrázek s logy je třeba umístit do záhlaví každého slidu</dc:title>
</cp:coreProperties>
</file>